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5EB-3D5E-42A8-9AE5-8BBB6ABF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A5C-3B76-4BD2-9D38-68C51E99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EC6-A0C6-4F4D-830B-8D9BC865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989-CE91-4D0B-8661-0088A364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DD8F-473D-45D8-9C24-BE20F471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3978-3238-409C-9AF0-4B1488DC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C353-D20D-4B2C-84E8-D56B1679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AE50-7B81-4533-BDD8-6ED0C77D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BC22-7DB6-4DFC-85B3-71CA6CDD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1C79-D761-400A-A8DA-2736F1BE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9530-9995-4471-AF10-0640736F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281-4945-4EE3-AD91-C4069BCE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34BD-98E1-490E-B740-E24A461A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EE28-8A7B-462E-9723-453C69D5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D994-766C-4128-BD1F-DC8DB545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9896-13DA-476A-89D2-EC384184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ECFC-33E3-4E2B-B591-00C70076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8912D-E775-4410-8A15-3B54E759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164A-AD29-4DCA-A88C-F93BE9CD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2D74-D2F1-4B33-B7C4-3F82300B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462F-11DC-4220-8668-75ED77F8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4E35C-9EB1-4062-9579-B3223487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F99-5E67-47FD-9B73-A6B574CE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F669C-C769-4774-A9B9-511FD5E8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515B9-63AC-4D53-9B33-1E294ACF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5E7FE-4612-4440-B2D2-740A52CC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57B0D-732F-43D6-ADFF-63581839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382D4-62DC-4965-85A0-25A5C69C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61C0A-F6EE-4110-B7C8-795650EF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7AC4-AD1F-4BBC-9AD8-81C9120C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482EA-3E34-4A6E-A13B-227C970F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A5992-FF93-4B7E-A5E2-67A8DF3E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CAD85-A673-407D-89FA-A9A74A36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91EC-A1CC-4324-B0BB-25A72A70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A7023-5FA1-4E27-98B3-7508D741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39761-E418-4545-A2C6-D4970488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1EB03-56B7-4E89-A728-50D9A4B5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F8E52-E5BB-486D-AF35-A60FB62F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69579-E320-4303-8C24-FB32BDDB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69DB3-1329-4A9C-B0D7-B959E2DF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30CFE-A5C2-40E9-BFCA-B2FC23D8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D00B4-B5B4-41CB-A5AF-3B759946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D3763-E30C-427D-8C11-4833E01B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9BEC1-9718-42C6-9DB9-C63637D0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E08-CC4A-45FB-ABA9-A54D9A20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9A402-4404-48EF-9CA9-42861D6C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4E58D-9F7C-4276-94CA-168BCB1B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3FBC1-F760-4E57-BE77-51472D36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E514D-EABD-4E73-99FF-16B5DB00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1851D-B1B8-4F80-BC00-6BFA0CEE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4415D-8526-40B3-BA3C-7C5C33C6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E3BC9-0378-421E-B661-2189589F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8611E-573A-421F-8339-8A1F04A6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AC3CE-B500-4BE1-B72C-111A2FB7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04B8C-1C22-48E4-B4D4-B5A72EFD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D2B-AA5C-46E3-98D5-A88E7C50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9DE0B-F709-4A6A-A1AF-5C8E69B2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77797-98A3-43D5-AAE0-C237CA29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26D93-5ADB-4D9D-A4B8-014DFA0F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60828-3F01-4CD1-A42F-1FDC29F6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EF424-BCA2-4EAF-ADCB-F1E190EE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12FEC-D18D-4EE8-BD4C-B2D49272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81B8C-219C-4018-91CE-81F35217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639A4-4499-455C-ADE1-B065C549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8D573-F3C7-41A2-B20F-3C094507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DF111-3AE8-433A-B90F-40C777EB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977-0C78-4225-B9FA-4904413C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7A226-94BF-474C-B1EE-213D7CEE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89A8F-7ACE-4A7B-92DA-F4D22082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3FD0D-672F-4A9A-879A-13AC8AE6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656A0-5552-4BE5-9DC7-1374CCE0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2A2D6-D02E-4DB8-A2CD-6B33A281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60F1E-D4B0-4BEE-90B7-7315123B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027D0-03D8-419F-A498-2675E080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01217-41C9-4382-A94B-75087432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6FBA5-0F9B-4546-BCDA-ABA8BD38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B1E04-21E7-425B-B0D8-335F6D1C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8F9-8D42-4E29-B409-29E0C011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365A9-C0F0-42E1-9997-09330D17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9EB25-D7F2-4C08-A91E-AFB6F2D6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E8A27-76C8-468B-9BB6-E2F6B7E8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F08E4-379C-4196-8142-848047F9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FF688-5A0E-48A0-84F9-D1BAAF35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D5F-B31B-4A5B-B674-4974FD52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AA421-DB44-4A2B-8458-A9AB24791EE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92D4B-DF10-4030-AB4A-B3B26FF4FAC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504D7-8667-47A7-A738-859A5C8FED6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C4488-2A27-4CC3-BBE7-D0D0CE64AA7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97B43-E1E2-4D01-B8D0-7869C25C280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30445-533C-4615-89F5-E0771349CB6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0FCA5-9243-4480-AC9D-1B81CAFB5CA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B1DC1-1DB8-40F6-98AB-D63F53A791C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5AD55-B495-4572-B82E-84CA12E406A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8EB2F-65FA-41EB-A31D-FB3E6E98FBF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3AA6F-613C-41F0-937D-17FD98002DA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BB563-86DC-4978-ABCC-80A19EAE4F6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95977-D4E8-4200-868A-D8FB35C482F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4A58B-0D1D-43BA-AB72-48857BBC481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earning about Learn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TQI Modeling Pilo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ase study from ASTR1020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920"/>
            <a:ext cx="74995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26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ring 200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11560" indent="-189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e dedicated ‘hands-on/minds-on’ activity to address light intens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3" name="Chart 7" descr=""/>
          <p:cNvPicPr/>
          <p:nvPr/>
        </p:nvPicPr>
        <p:blipFill>
          <a:blip r:embed="rId2"/>
          <a:stretch/>
        </p:blipFill>
        <p:spPr>
          <a:xfrm>
            <a:off x="4840200" y="3108240"/>
            <a:ext cx="3902040" cy="3432240"/>
          </a:xfrm>
          <a:prstGeom prst="rect">
            <a:avLst/>
          </a:prstGeom>
          <a:ln w="0">
            <a:noFill/>
          </a:ln>
        </p:spPr>
      </p:pic>
      <p:sp>
        <p:nvSpPr>
          <p:cNvPr id="344" name="Content Placeholder 2"/>
          <p:cNvSpPr/>
          <p:nvPr/>
        </p:nvSpPr>
        <p:spPr>
          <a:xfrm>
            <a:off x="1397160" y="3137040"/>
            <a:ext cx="32382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erformance on other items did not suff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vidence-based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QI working group identified general features of teaching that evidence suggests enhance learnin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this is so, shouldn’t all our students benefit from them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vidence-based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 related to constructivist view of lear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ing is a dynamic process that takes place when learners try to integrate new experiences and information into their existing schema of the world in a meaningful way.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ing is ‘making sense’ of new information in the context of what you already ‘know’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vidence-based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king prior knowledge explic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ople make sense of the world in terms of what they already ‘know’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refore, it’s important that both the learner and teacher are aware of this prior knowledg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do you view your students’ prior knowledge in your class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 flipH="1">
            <a:off x="7207200" y="274680"/>
            <a:ext cx="17272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vidence-based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17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moting active engag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ople learn better when ‘engaged’ with trying to understand the content rather than passive receptio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nds-on’ is more important than ‘Hands-on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cilitating social intera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 collaborative groups can extend knowledge and understanding further than an individua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could you address both of these in a large clas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7029360" y="274680"/>
            <a:ext cx="21146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vidence-based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17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a learning cycle approa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’s not just ‘get it’ or ‘don’t get it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ing is a gradual process involving states of ‘partial knowledge’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learning process can be ‘scaffolded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varied techn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t people have different learning styl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ditory, kinesthetic, visual, et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do you do to accommodate different styl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6858000" y="274680"/>
            <a:ext cx="20764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vidence-based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17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tinual formative assess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mative versus summative assess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edback works both way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do you know whether your students are learning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often do you check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all your assessment ‘high-stakes’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2"/>
          <a:stretch/>
        </p:blipFill>
        <p:spPr>
          <a:xfrm>
            <a:off x="6916680" y="307800"/>
            <a:ext cx="215892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earning about Learning Program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17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TU pilot program to address TQI Modeling focal are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our opportunity to consider and discuss all these (and more?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rticipants: new faculty plus selected oth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earning about Learning Program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417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ect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tend large group meetings/seminars if possi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ll address general issu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ld regular small-group meet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iscuss discipline-specific context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te two survey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e and post progra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y out an evidence-based strategy at some point in a spring clas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f possible, briefly document implementation and impac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ive student survey in these classes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roup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6" name="Content Placeholder 3" descr=""/>
          <p:cNvPicPr/>
          <p:nvPr/>
        </p:nvPicPr>
        <p:blipFill>
          <a:blip r:embed="rId2"/>
          <a:stretch/>
        </p:blipFill>
        <p:spPr>
          <a:xfrm>
            <a:off x="1359000" y="1378080"/>
            <a:ext cx="7651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rt with a ques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many university faculty does it take to change a light bulb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ANGE ????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earning about Learning Program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17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wa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lary supplement ($1,250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$500 in December, rest in May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vel mone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p to $500 for program-related tra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an be used for other purposes if approv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 give background and focus discuss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nd with a joke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434960" y="1417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many surrealists does it take to change a light bulb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to hold the giraffe, and the other to fill the bathtub with brightly colored machine tool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ut more seriously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 a card write one word to describe the preparation of students entering your entry-level class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cuss with your neighbors what you think the reasons for this ar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Tennessee Teaching Quality Initiative (TQI)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7521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QI Task Force (2006/07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oad participation fr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ge of stakehold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ed issues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aching qualit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suppl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dentified five focal are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2"/>
          <a:stretch/>
        </p:blipFill>
        <p:spPr>
          <a:xfrm>
            <a:off x="6067440" y="2328840"/>
            <a:ext cx="28987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QI Focal are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17680"/>
            <a:ext cx="7499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nowledge b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ong background in content and pedago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racteristics of Quality Teac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o will be a good teacher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fessionalizing teach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ablishing a meaningful career lad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el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does effective teaching look and feel lik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ntor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rentice teachers need meaningful suppor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dec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dec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dec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dec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dec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dec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00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00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dec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dec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del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17680"/>
            <a:ext cx="7499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-12 teachers are expected to employ evidence-based teaching strategies in their own class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 all tend to teach as we were taugh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maximize chances of producing effective teachers we need to model effective teaching for the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re questions to discus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students in your own classes learn as well as you want them 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do you know if learning you desire is actually happening in your classroom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it possible to improve student learning in your classes? If so, how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ase study from ASTR1020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920"/>
            <a:ext cx="74995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tronomy Diagnostic Te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e test given at start and end of cour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5" name="Chart 3" descr=""/>
          <p:cNvPicPr/>
          <p:nvPr/>
        </p:nvPicPr>
        <p:blipFill>
          <a:blip r:embed="rId2"/>
          <a:stretch/>
        </p:blipFill>
        <p:spPr>
          <a:xfrm>
            <a:off x="4840200" y="2901960"/>
            <a:ext cx="3902040" cy="3217680"/>
          </a:xfrm>
          <a:prstGeom prst="rect">
            <a:avLst/>
          </a:prstGeom>
          <a:ln w="0">
            <a:noFill/>
          </a:ln>
        </p:spPr>
      </p:pic>
      <p:sp>
        <p:nvSpPr>
          <p:cNvPr id="336" name="Content Placeholder 2"/>
          <p:cNvSpPr/>
          <p:nvPr/>
        </p:nvSpPr>
        <p:spPr>
          <a:xfrm>
            <a:off x="1427040" y="2906640"/>
            <a:ext cx="3240360" cy="35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ring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erformance 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elected i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#5 – speed of radio waves versus other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#15 – how light intensity depends on d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ase study from ASTR1020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Content Placeholder 2"/>
          <p:cNvSpPr/>
          <p:nvPr/>
        </p:nvSpPr>
        <p:spPr>
          <a:xfrm>
            <a:off x="1427040" y="2906640"/>
            <a:ext cx="324036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ignificantly improved  performance on 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till poor on #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920"/>
            <a:ext cx="74995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ring 200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ase focus on these topics in ‘lecture’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0" name="Chart 6" descr=""/>
          <p:cNvPicPr/>
          <p:nvPr/>
        </p:nvPicPr>
        <p:blipFill>
          <a:blip r:embed="rId2"/>
          <a:stretch/>
        </p:blipFill>
        <p:spPr>
          <a:xfrm>
            <a:off x="4840200" y="2779560"/>
            <a:ext cx="390204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3:21:09Z</dcterms:created>
  <dc:creator>Steve Robinson</dc:creator>
  <dc:description/>
  <dc:language>en-US</dc:language>
  <cp:lastModifiedBy>Steve Robinson</cp:lastModifiedBy>
  <dcterms:modified xsi:type="dcterms:W3CDTF">2010-12-02T16:03:08Z</dcterms:modified>
  <cp:revision>29</cp:revision>
  <dc:subject/>
  <dc:title>Learning about Learning</dc:title>
</cp:coreProperties>
</file>